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7AD-F6E2-46EC-ACD3-0307B7E5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3DC-BA3E-4B9F-ACB1-105DBC1F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2B1-00C0-4080-A56F-37A6C4ED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F23-C4AB-438B-8511-F1A8D04E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6800-653A-40CC-B541-6E7CADBF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8728-DD15-4234-A656-5237233F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27AD-D938-4E9E-A7D1-98811419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4B50-07EE-494E-9E57-3DE97C2E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904C-28CB-43D3-B97D-B09CB557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BEFB-0104-4EDD-8A7D-02D48A51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5C25-1A98-466C-A175-B6FA4B64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92F-DCB2-4CE7-B7EC-0C3D66C1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2697-0430-4145-95B5-2C312DAD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E582-9C87-479B-AEAF-07A8C735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5A6A-33E4-4E03-9C2C-F7A45ECB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D513-AD02-4A50-BBF4-54C7565C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BE76-8E67-4E7D-B4B8-45BD8859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3E8-779F-4261-951A-4CD254F3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552-213C-4E41-B5DD-F7055E50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7C6-DF25-450D-82DA-A04AE6A2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EAB-A06E-49CF-9EE5-6D63FF60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117-A8EA-4EF5-823A-8A57AEFB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F05-EBFF-4FF0-B709-0F518A17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C2E-7E83-4B8A-92FE-014EE824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5C91-E6FB-4881-A108-BE2ACC9FA3E6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7F8C-92C5-4789-BFAB-77C954C58809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ndszer adminisztrátori feladatok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Konfigurációmenedzsment feladata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ardvernyilvántartás kialakí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ábelezési rendszer nyilvántartása és menedzsmentje (CMS, Cable Management Syste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zoftvernyilvántartás kialakí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Konfigurációmenedzsment feladata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opológia nyilvántartás kialakí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ndszerkonfigurációs térkép kialakí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dminisztrált LAN információs adatbázisának kialakítá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IB (Management Information Base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Konfigurációmenedzsment feladata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áltozások nyilvántar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 konfigurációk menedzselését segítő eszközök használata (Adatbázis-kezelő, dokumentumkezelő, diszk-felhasználást adminisztráló, monitoring programok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Hibamenedzsment feladata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lhasználók felkészítése a hibák felismerésére és a hibák észlelésekor szükséges teendők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agnosztikai eszközök használata az ismeretlen eredetű hibák detektálásá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Hibamenedzsment feladata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gikai terv (forgatókönyv) készítése a típusos problémák elhárításá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eménynapló használ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ztelési eljárások kidolgoz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bamenedzsment eszköze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Licence menedzsment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álózaton működő szoftverek licence-nyilvántartási rendszerének kidolgoz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egális szoftverek felkutatása és eltávolítása a hálózatró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Adatbiztonság és adatvédelem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AN biztonsági osztályának meghatároz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elhasználói hozzáférés-szabályozás rendszerének kialakít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datcserét végző partnerek hitelességének ellenőrzé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írusvéde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datbiztonságot és adatvédelmet támogató szoftver/hardver eszközök használata. (LAN  figyelők, vírusvédelmi eszközök, hozzáférést figyelő és dokumentáló eszközö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4:19:29Z</dcterms:created>
  <dc:creator>Nagymáté Péter</dc:creator>
  <dc:description/>
  <dc:language>en-US</dc:language>
  <cp:lastModifiedBy>Nagymáté Péter</cp:lastModifiedBy>
  <dcterms:modified xsi:type="dcterms:W3CDTF">2004-12-14T14:41:01Z</dcterms:modified>
  <cp:revision>3</cp:revision>
  <dc:subject/>
  <dc:title>Rendszer adminisztrátori feladatok</dc:title>
</cp:coreProperties>
</file>